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AE7E693-5276-45CF-89B5-1A6BBB9B24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1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2E7AB45-F3AE-442F-89F4-03613086849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issejuhatus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põhiideed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jaloolised/ideelised aluse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: lisp keele põhiandmetüüp on list ehk s-expressi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lgudega eraldatud, tüübivaba loetelu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lma lisainfota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 tume”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 õllevabrik”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” “Tallinna mnt” 2) 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rter    8.90    5.4   “Järsumaitseline”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sainfoga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olu (nimi “Nuia tume”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tootja (nimi “Nuia õllevabrik”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aadress (kyla “Nuia”) (tanav  “Tallinna mnt”) (maja  2)) 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tyyp Porter) (hind 8.90) (kangus 5.4) (maitse “Järsumaitseline”)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0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jaloolised/ideelised aluse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G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ML (generalized markup language): IBM, 196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GML (standard generalized markup language): 19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suuremad kasutused 1980-te kesk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Manuscript Project of the Association of American Publishers (AAP)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cumentation component of the Computer-aided Acquisition and Logistic Support (CALS) initiative of the US Department of Defen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GML oli HTML keele inspiratsiooniks: süntaks on põhimõtteliselt samade põhimõtete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on veidi lihtsustatud variant SG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esitamine XMLs: kaks võimal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võimal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nivaadatud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tagide vah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 variant: andmed tag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tid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neil vahet on? Tagide vahel olevatel andmetel võivad olla alamelemendid, atribuudi väärtuseks saab olla vaid struktuurita string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 vahel võib olla palju samanimelisi tag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aos&gt;&lt;toode&gt;1&lt;/toode&gt;&lt;toode&gt;2&lt;/toode&gt;&lt;/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tagil võib olla mingi nimega atribuute vaid ü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valuuta=”EUR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ig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kaibemaks=”18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riantvõimalus: tühi ta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 vahel ei pea midagi olema, &lt;onlaos&gt;&lt;/onlaos&gt; on O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hja dataga tagi on lubatud kirjutada lühemal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/&gt;                 on samaväärne kui    &lt;onlaos&gt;&lt;/on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 arv=”3”/&gt;   on samuti O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tagid tegelikult tähendavad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654120"/>
            <a:ext cx="7848720" cy="69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, mida ütleb “hind” ja “curr” programmi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curr=”EEK&gt;8.9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: XML mõttes mitte midagi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l ja atribuutidel ei ole XML-s mingit tähendu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henduse” annab iga XML teksti töötlev programm eraldi, st programm teeb ühe tagi puhul üht, teise puhul teist asja. See on puhtalt programmeerija otsu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keel on puhas süntaks, semantika puud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29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HTML: semantikata ja semantik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dleme XML-i ja HTML-i semantika aspektist (süntaks on sarnane: mõlemal on tagid ja atribuudid)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ML: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tag”-del visuaalne semantika, st brauser näitab esimest rida bold fondiga, teist kaldkirjas:  &lt;b&gt; ja &lt;i&gt; tähendavad, et teksti tuleb just nii kujund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&gt;Siin on paks tekst&lt;/b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&gt;Siin on kaldkirjas tekst&lt;/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“tag”-del semantika puudub: näiteks, järgmised tagid ei tähenda XML jaoks midag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&gt;Siin on paks tekst&lt;/b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utor&gt;Tanel Tammet&lt;/auto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inuaadress&gt;Kuiv 9&lt;/minu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3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kasutus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pakub meile standardiseeritud, levinud süntaks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da XML süntaksit saab kasutada uute keelte tegemiseks oma vajaduste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igupooles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 = SÜNTAKS + SEMANT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XML on ainult  “poolik” keel, nagu ka CS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, SQL, JAVA, C jms on vastupidi, terviklikud keel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iga keele jaoks saab teha XML süntaksi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 tegemine XML süntaksiga tähendab, et tuleb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71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kseerida mingi hulk tage ja atribuute ja anda neile tähend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71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ärata täiendavad reeglid (mis tag tohib millise all olla jn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gi XML ise on lihtne, on XML süntaksiga tehtud palju kasulikke keeli: nende konkreetsete keelte uurimine on aegavõttev ja teeb XML-nduse näiliselt keerul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3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2412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kskurss edasistesse vajadustesse: võrguteenused ja semantic we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6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ternet: minevik, olevik, tulevi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õrguteenused ja .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s puudub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jaduste näi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mantic web: kih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g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608040"/>
            <a:ext cx="7769520" cy="303120"/>
            <a:chOff x="838080" y="608040"/>
            <a:chExt cx="7769520" cy="303120"/>
          </a:xfrm>
        </p:grpSpPr>
        <p:sp>
          <p:nvSpPr>
            <p:cNvPr id="246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05800" y="608040"/>
              <a:ext cx="180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49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53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57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61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65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69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73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77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81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85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89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V="1">
            <a:off x="2133720" y="3044880"/>
            <a:ext cx="1220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76520" y="3730320"/>
            <a:ext cx="22860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4873320"/>
            <a:ext cx="121896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84880" y="1219320"/>
            <a:ext cx="186228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119360" y="4699080"/>
            <a:ext cx="1877760" cy="1920960"/>
            <a:chOff x="7119360" y="4699080"/>
            <a:chExt cx="1877760" cy="1920960"/>
          </a:xfrm>
        </p:grpSpPr>
        <p:sp>
          <p:nvSpPr>
            <p:cNvPr id="317" name=""/>
            <p:cNvSpPr/>
            <p:nvPr/>
          </p:nvSpPr>
          <p:spPr>
            <a:xfrm>
              <a:off x="7232760" y="4699080"/>
              <a:ext cx="1650960" cy="192096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1920960"/>
                <a:gd name="textAreaBottom" fmla="*/ 1920600 h 1920960"/>
              </a:gdLst>
              <a:ahLst/>
              <a:rect l="textAreaLeft" t="textAreaTop" r="textAreaRight" b="textAreaBottom"/>
              <a:pathLst>
                <a:path w="21600" h="25132">
                  <a:moveTo>
                    <a:pt x="20" y="0"/>
                  </a:moveTo>
                  <a:arcTo wR="20" hR="20" stAng="16200000" swAng="-5400000"/>
                  <a:lnTo>
                    <a:pt x="0" y="25112"/>
                  </a:lnTo>
                  <a:arcTo wR="20" hR="20" stAng="10800000" swAng="-5400000"/>
                  <a:lnTo>
                    <a:pt x="21580" y="2513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9360" y="469908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-254520"/>
            <a:ext cx="8077320" cy="11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22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572000" y="1371600"/>
            <a:ext cx="455760" cy="531720"/>
            <a:chOff x="4572000" y="1371600"/>
            <a:chExt cx="455760" cy="531720"/>
          </a:xfrm>
        </p:grpSpPr>
        <p:sp>
          <p:nvSpPr>
            <p:cNvPr id="327" name=""/>
            <p:cNvSpPr/>
            <p:nvPr/>
          </p:nvSpPr>
          <p:spPr>
            <a:xfrm>
              <a:off x="4572000" y="13716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4"/>
                    <a:pt x="135" y="80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0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0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5320" y="17524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65080" y="547200"/>
            <a:ext cx="7769160" cy="303840"/>
            <a:chOff x="865080" y="547200"/>
            <a:chExt cx="7769160" cy="303840"/>
          </a:xfrm>
        </p:grpSpPr>
        <p:sp>
          <p:nvSpPr>
            <p:cNvPr id="341" name=""/>
            <p:cNvSpPr/>
            <p:nvPr/>
          </p:nvSpPr>
          <p:spPr>
            <a:xfrm>
              <a:off x="865080" y="84924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632800" y="54720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34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49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572000" y="1371600"/>
            <a:ext cx="455760" cy="531720"/>
            <a:chOff x="4572000" y="1371600"/>
            <a:chExt cx="455760" cy="531720"/>
          </a:xfrm>
        </p:grpSpPr>
        <p:sp>
          <p:nvSpPr>
            <p:cNvPr id="354" name=""/>
            <p:cNvSpPr/>
            <p:nvPr/>
          </p:nvSpPr>
          <p:spPr>
            <a:xfrm>
              <a:off x="4572000" y="13716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4"/>
                    <a:pt x="135" y="80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0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0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17524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76920" y="2362320"/>
            <a:ext cx="455400" cy="531720"/>
            <a:chOff x="4876920" y="2362320"/>
            <a:chExt cx="455400" cy="531720"/>
          </a:xfrm>
        </p:grpSpPr>
        <p:sp>
          <p:nvSpPr>
            <p:cNvPr id="359" name=""/>
            <p:cNvSpPr/>
            <p:nvPr/>
          </p:nvSpPr>
          <p:spPr>
            <a:xfrm>
              <a:off x="4876920" y="23623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9880" y="27432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495680" y="5486400"/>
            <a:ext cx="455760" cy="531720"/>
            <a:chOff x="4495680" y="5486400"/>
            <a:chExt cx="455760" cy="531720"/>
          </a:xfrm>
        </p:grpSpPr>
        <p:sp>
          <p:nvSpPr>
            <p:cNvPr id="364" name=""/>
            <p:cNvSpPr/>
            <p:nvPr/>
          </p:nvSpPr>
          <p:spPr>
            <a:xfrm>
              <a:off x="4495680" y="54864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4"/>
                    <a:pt x="136" y="80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0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736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4"/>
                    <a:pt x="136" y="80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99000" y="5867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105520" y="3429000"/>
            <a:ext cx="455400" cy="531720"/>
            <a:chOff x="5105520" y="3429000"/>
            <a:chExt cx="455400" cy="531720"/>
          </a:xfrm>
        </p:grpSpPr>
        <p:sp>
          <p:nvSpPr>
            <p:cNvPr id="369" name=""/>
            <p:cNvSpPr/>
            <p:nvPr/>
          </p:nvSpPr>
          <p:spPr>
            <a:xfrm>
              <a:off x="5105520" y="342900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20"/>
                    <a:pt x="1265" y="739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4"/>
                    <a:pt x="136" y="80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164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4"/>
                    <a:pt x="136" y="80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0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08480" y="380988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1">
                  <a:moveTo>
                    <a:pt x="0" y="0"/>
                  </a:moveTo>
                  <a:cubicBezTo>
                    <a:pt x="223" y="140"/>
                    <a:pt x="474" y="140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876920" y="4648320"/>
            <a:ext cx="455400" cy="531720"/>
            <a:chOff x="4876920" y="4648320"/>
            <a:chExt cx="455400" cy="531720"/>
          </a:xfrm>
        </p:grpSpPr>
        <p:sp>
          <p:nvSpPr>
            <p:cNvPr id="374" name=""/>
            <p:cNvSpPr/>
            <p:nvPr/>
          </p:nvSpPr>
          <p:spPr>
            <a:xfrm>
              <a:off x="4876920" y="46483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9880" y="50292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437200" y="2084400"/>
            <a:ext cx="943560" cy="399600"/>
            <a:chOff x="2437200" y="2084400"/>
            <a:chExt cx="943560" cy="399600"/>
          </a:xfrm>
        </p:grpSpPr>
        <p:sp>
          <p:nvSpPr>
            <p:cNvPr id="384" name=""/>
            <p:cNvSpPr/>
            <p:nvPr/>
          </p:nvSpPr>
          <p:spPr>
            <a:xfrm>
              <a:off x="2438280" y="2084400"/>
              <a:ext cx="941400" cy="39672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7200" y="2084400"/>
              <a:ext cx="943560" cy="3996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E-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3160" y="107784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-35136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65080" y="547200"/>
            <a:ext cx="7769160" cy="303840"/>
            <a:chOff x="865080" y="547200"/>
            <a:chExt cx="7769160" cy="303840"/>
          </a:xfrm>
        </p:grpSpPr>
        <p:sp>
          <p:nvSpPr>
            <p:cNvPr id="391" name=""/>
            <p:cNvSpPr/>
            <p:nvPr/>
          </p:nvSpPr>
          <p:spPr>
            <a:xfrm>
              <a:off x="865080" y="84924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632800" y="54720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94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436480" y="2084400"/>
            <a:ext cx="903960" cy="399600"/>
            <a:chOff x="2436480" y="2084400"/>
            <a:chExt cx="903960" cy="399600"/>
          </a:xfrm>
        </p:grpSpPr>
        <p:sp>
          <p:nvSpPr>
            <p:cNvPr id="404" name=""/>
            <p:cNvSpPr/>
            <p:nvPr/>
          </p:nvSpPr>
          <p:spPr>
            <a:xfrm>
              <a:off x="2438280" y="2084400"/>
              <a:ext cx="900360" cy="39672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36480" y="2084400"/>
              <a:ext cx="903960" cy="3996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WW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66240" y="11620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1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08440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80200" y="116208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35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>
            <a:off x="1905120" y="27399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1219320"/>
            <a:ext cx="1524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438280" y="113976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1600200" y="3733920"/>
            <a:ext cx="455760" cy="531720"/>
            <a:chOff x="1600200" y="3733920"/>
            <a:chExt cx="455760" cy="531720"/>
          </a:xfrm>
        </p:grpSpPr>
        <p:sp>
          <p:nvSpPr>
            <p:cNvPr id="448" name=""/>
            <p:cNvSpPr/>
            <p:nvPr/>
          </p:nvSpPr>
          <p:spPr>
            <a:xfrm>
              <a:off x="1600200" y="373392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19"/>
                    <a:pt x="1266" y="738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5"/>
                    <a:pt x="135" y="81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781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5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5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03520" y="41148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2">
                  <a:moveTo>
                    <a:pt x="0" y="0"/>
                  </a:moveTo>
                  <a:cubicBezTo>
                    <a:pt x="223" y="141"/>
                    <a:pt x="475" y="141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2057400" y="3730320"/>
            <a:ext cx="388620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49840" y="2895480"/>
            <a:ext cx="9205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464600" y="3048120"/>
            <a:ext cx="15840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016680" y="4419720"/>
            <a:ext cx="1225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60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 ja suudaks sellest HTML-st meile vajalikku datat leida ja töödel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nde sisu töödeld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6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469" name="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8124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08080" y="43434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76" name=""/>
          <p:cNvGrpSpPr/>
          <p:nvPr/>
        </p:nvGrpSpPr>
        <p:grpSpPr>
          <a:xfrm>
            <a:off x="6019920" y="5638680"/>
            <a:ext cx="1555560" cy="338040"/>
            <a:chOff x="6019920" y="5638680"/>
            <a:chExt cx="1555560" cy="338040"/>
          </a:xfrm>
        </p:grpSpPr>
        <p:sp>
          <p:nvSpPr>
            <p:cNvPr id="477" name=""/>
            <p:cNvSpPr/>
            <p:nvPr/>
          </p:nvSpPr>
          <p:spPr>
            <a:xfrm>
              <a:off x="6019920" y="5638680"/>
              <a:ext cx="1555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20280" y="5638680"/>
              <a:ext cx="155448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aasteen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733920" y="4648320"/>
            <a:ext cx="1749240" cy="338040"/>
            <a:chOff x="3733920" y="4648320"/>
            <a:chExt cx="1749240" cy="338040"/>
          </a:xfrm>
        </p:grpSpPr>
        <p:sp>
          <p:nvSpPr>
            <p:cNvPr id="480" name=""/>
            <p:cNvSpPr/>
            <p:nvPr/>
          </p:nvSpPr>
          <p:spPr>
            <a:xfrm>
              <a:off x="3733920" y="4648320"/>
              <a:ext cx="174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6080" y="4648320"/>
              <a:ext cx="17449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Kuvamis-tee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52880" y="3273480"/>
            <a:ext cx="1447920" cy="768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200400"/>
            <a:ext cx="8874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4114800"/>
            <a:ext cx="8463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3657600"/>
            <a:ext cx="9000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.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llmer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".NET is at the core of what we're trying to do as a company.“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NET: võrguteenuste loomise platvor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grammeerimisplatvorm (C#, CLR, …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rakendused XML-keeltele SOAP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SDL, UD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tugi rakenduste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AP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RPC edasiarendus: XML-suhtluse keel üle htt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US: MSFT, IBM, SUN, 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9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kendusi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940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tne otsing võrg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usiness-to-business lahenduse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imüüjad panevad võrku oma hinnakirja, jaemüüjad otsivad sobiva hinna ja tingimustega kaup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te infosüsteemide ühendamine (kaks panka ühinevad, data vaja kokku viia, pangas palju väikesi süsteem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osolekute planeerimine: leida ühised aj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gipääsuõiguste süsteem: kes kuhu kataloogi/infole ligi pääs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tne assistent: otsib ise mind huvitavaid uudiseid, hindu jne, teatab, kui midagi lei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9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algoritm reegleid kasutav algoritm rakend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0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93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&gt;100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0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5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60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48680" y="2905200"/>
              <a:ext cx="20336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eh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19200" y="4871880"/>
            <a:ext cx="3381480" cy="636840"/>
            <a:chOff x="2419200" y="4871880"/>
            <a:chExt cx="3381480" cy="636840"/>
          </a:xfrm>
        </p:grpSpPr>
        <p:sp>
          <p:nvSpPr>
            <p:cNvPr id="63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8900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71960" y="4213080"/>
            <a:ext cx="1305000" cy="586080"/>
            <a:chOff x="4971960" y="4213080"/>
            <a:chExt cx="1305000" cy="586080"/>
          </a:xfrm>
        </p:grpSpPr>
        <p:sp>
          <p:nvSpPr>
            <p:cNvPr id="66" name=""/>
            <p:cNvSpPr/>
            <p:nvPr/>
          </p:nvSpPr>
          <p:spPr>
            <a:xfrm>
              <a:off x="497196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06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69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393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27480" y="3835440"/>
            <a:ext cx="743040" cy="561960"/>
            <a:chOff x="4227480" y="3835440"/>
            <a:chExt cx="743040" cy="561960"/>
          </a:xfrm>
        </p:grpSpPr>
        <p:sp>
          <p:nvSpPr>
            <p:cNvPr id="72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016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030400" y="3811680"/>
            <a:ext cx="1927080" cy="463320"/>
            <a:chOff x="2030400" y="3811680"/>
            <a:chExt cx="1927080" cy="463320"/>
          </a:xfrm>
        </p:grpSpPr>
        <p:sp>
          <p:nvSpPr>
            <p:cNvPr id="75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1320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1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-6973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ama probleem andmebaasiga isegi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ÜHESAINSAS MASIN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QL keeles on meil tabeli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 Nim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     Am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Jaan T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Degustaato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Ants Ra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     Laom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Jaan T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Müügim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      Juhata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esimeses tabelis ei tohi kordu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teises tabelis peab olema esimeses tabel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ja: nimede seosed, reeglid struktuur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01800" y="425520"/>
            <a:ext cx="7769160" cy="303120"/>
            <a:chOff x="901800" y="425520"/>
            <a:chExt cx="7769160" cy="303120"/>
          </a:xfrm>
        </p:grpSpPr>
        <p:sp>
          <p:nvSpPr>
            <p:cNvPr id="516" name=""/>
            <p:cNvSpPr/>
            <p:nvPr/>
          </p:nvSpPr>
          <p:spPr>
            <a:xfrm>
              <a:off x="901800" y="727200"/>
              <a:ext cx="7767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669160" y="425520"/>
              <a:ext cx="180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8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8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9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10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9800" indent="-282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85960" y="2269800"/>
            <a:ext cx="180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7972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9692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4440" y="2293560"/>
            <a:ext cx="144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75000" y="2282760"/>
            <a:ext cx="180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88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39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11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5800" y="228600"/>
            <a:ext cx="7772400" cy="685800"/>
            <a:chOff x="685800" y="228600"/>
            <a:chExt cx="7772400" cy="685800"/>
          </a:xfrm>
        </p:grpSpPr>
        <p:sp>
          <p:nvSpPr>
            <p:cNvPr id="120" name=""/>
            <p:cNvSpPr/>
            <p:nvPr/>
          </p:nvSpPr>
          <p:spPr>
            <a:xfrm>
              <a:off x="685800" y="228600"/>
              <a:ext cx="77724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288000"/>
              <a:ext cx="7772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80"/>
                  </a:solidFill>
                  <a:latin typeface="Bitstream Vera Sans"/>
                </a:rPr>
                <a:t>Tabelandmed XML-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0880" y="1523880"/>
            <a:ext cx="2745000" cy="1893960"/>
            <a:chOff x="380880" y="1523880"/>
            <a:chExt cx="2745000" cy="1893960"/>
          </a:xfrm>
        </p:grpSpPr>
        <p:grpSp>
          <p:nvGrpSpPr>
            <p:cNvPr id="123" name=""/>
            <p:cNvGrpSpPr/>
            <p:nvPr/>
          </p:nvGrpSpPr>
          <p:grpSpPr>
            <a:xfrm>
              <a:off x="2209680" y="2541600"/>
              <a:ext cx="914400" cy="436680"/>
              <a:chOff x="2209680" y="2541600"/>
              <a:chExt cx="914400" cy="436680"/>
            </a:xfrm>
          </p:grpSpPr>
          <p:sp>
            <p:nvSpPr>
              <p:cNvPr id="124" name=""/>
              <p:cNvSpPr/>
              <p:nvPr/>
            </p:nvSpPr>
            <p:spPr>
              <a:xfrm>
                <a:off x="22096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295280" y="2541600"/>
              <a:ext cx="914400" cy="436680"/>
              <a:chOff x="1295280" y="2541600"/>
              <a:chExt cx="914400" cy="436680"/>
            </a:xfrm>
          </p:grpSpPr>
          <p:sp>
            <p:nvSpPr>
              <p:cNvPr id="127" name=""/>
              <p:cNvSpPr/>
              <p:nvPr/>
            </p:nvSpPr>
            <p:spPr>
              <a:xfrm>
                <a:off x="12952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952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80880" y="2541600"/>
              <a:ext cx="914400" cy="436680"/>
              <a:chOff x="380880" y="2541600"/>
              <a:chExt cx="914400" cy="436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09680" y="2979720"/>
              <a:ext cx="914400" cy="436680"/>
              <a:chOff x="2209680" y="2979720"/>
              <a:chExt cx="914400" cy="436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2096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096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295280" y="2979720"/>
              <a:ext cx="914400" cy="436680"/>
              <a:chOff x="1295280" y="2979720"/>
              <a:chExt cx="914400" cy="436680"/>
            </a:xfrm>
          </p:grpSpPr>
          <p:sp>
            <p:nvSpPr>
              <p:cNvPr id="136" name=""/>
              <p:cNvSpPr/>
              <p:nvPr/>
            </p:nvSpPr>
            <p:spPr>
              <a:xfrm>
                <a:off x="12952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952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80880" y="2979720"/>
              <a:ext cx="914400" cy="436680"/>
              <a:chOff x="380880" y="2979720"/>
              <a:chExt cx="914400" cy="436680"/>
            </a:xfrm>
          </p:grpSpPr>
          <p:sp>
            <p:nvSpPr>
              <p:cNvPr id="139" name=""/>
              <p:cNvSpPr/>
              <p:nvPr/>
            </p:nvSpPr>
            <p:spPr>
              <a:xfrm>
                <a:off x="3808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08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209680" y="2033640"/>
              <a:ext cx="914400" cy="509400"/>
              <a:chOff x="2209680" y="2033640"/>
              <a:chExt cx="914400" cy="509400"/>
            </a:xfrm>
          </p:grpSpPr>
          <p:sp>
            <p:nvSpPr>
              <p:cNvPr id="142" name=""/>
              <p:cNvSpPr/>
              <p:nvPr/>
            </p:nvSpPr>
            <p:spPr>
              <a:xfrm>
                <a:off x="22096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096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95280" y="2033640"/>
              <a:ext cx="914400" cy="509400"/>
              <a:chOff x="1295280" y="2033640"/>
              <a:chExt cx="914400" cy="509400"/>
            </a:xfrm>
          </p:grpSpPr>
          <p:sp>
            <p:nvSpPr>
              <p:cNvPr id="145" name=""/>
              <p:cNvSpPr/>
              <p:nvPr/>
            </p:nvSpPr>
            <p:spPr>
              <a:xfrm>
                <a:off x="12952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952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80880" y="2033640"/>
              <a:ext cx="914400" cy="509400"/>
              <a:chOff x="380880" y="2033640"/>
              <a:chExt cx="914400" cy="509400"/>
            </a:xfrm>
          </p:grpSpPr>
          <p:sp>
            <p:nvSpPr>
              <p:cNvPr id="148" name=""/>
              <p:cNvSpPr/>
              <p:nvPr/>
            </p:nvSpPr>
            <p:spPr>
              <a:xfrm>
                <a:off x="3808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209680" y="1523880"/>
              <a:ext cx="914400" cy="509760"/>
              <a:chOff x="2209680" y="1523880"/>
              <a:chExt cx="914400" cy="50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22096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096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295280" y="1523880"/>
              <a:ext cx="914400" cy="509760"/>
              <a:chOff x="1295280" y="1523880"/>
              <a:chExt cx="914400" cy="509760"/>
            </a:xfrm>
          </p:grpSpPr>
          <p:sp>
            <p:nvSpPr>
              <p:cNvPr id="154" name=""/>
              <p:cNvSpPr/>
              <p:nvPr/>
            </p:nvSpPr>
            <p:spPr>
              <a:xfrm>
                <a:off x="12952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952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80880" y="1523880"/>
              <a:ext cx="914400" cy="509760"/>
              <a:chOff x="380880" y="1523880"/>
              <a:chExt cx="914400" cy="509760"/>
            </a:xfrm>
          </p:grpSpPr>
          <p:sp>
            <p:nvSpPr>
              <p:cNvPr id="157" name=""/>
              <p:cNvSpPr/>
              <p:nvPr/>
            </p:nvSpPr>
            <p:spPr>
              <a:xfrm>
                <a:off x="3808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80880" y="1523880"/>
              <a:ext cx="2743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203364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254160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3416400"/>
              <a:ext cx="27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1523880"/>
              <a:ext cx="1800" cy="18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1523880"/>
              <a:ext cx="180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1523880"/>
              <a:ext cx="180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1523880"/>
              <a:ext cx="1800" cy="18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297972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19000" y="819000"/>
            <a:ext cx="478080" cy="579600"/>
          </a:xfrm>
          <a:custGeom>
            <a:avLst/>
            <a:gdLst>
              <a:gd name="textAreaLeft" fmla="*/ 360 w 478080"/>
              <a:gd name="textAreaRight" fmla="*/ 477720 w 478080"/>
              <a:gd name="textAreaTop" fmla="*/ 360 h 579600"/>
              <a:gd name="textAreaBottom" fmla="*/ 579240 h 579600"/>
            </a:gdLst>
            <a:ahLst/>
            <a:rect l="textAreaLeft" t="textAreaTop" r="textAreaRight" b="textAreaBottom"/>
            <a:pathLst>
              <a:path w="21600" h="26183">
                <a:moveTo>
                  <a:pt x="72" y="0"/>
                </a:moveTo>
                <a:arcTo wR="72" hR="72" stAng="16200000" swAng="-5400000"/>
                <a:lnTo>
                  <a:pt x="0" y="26111"/>
                </a:lnTo>
                <a:arcTo wR="72" hR="72" stAng="10800000" swAng="-5400000"/>
                <a:lnTo>
                  <a:pt x="21528" y="26183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0" y="990720"/>
            <a:ext cx="4267080" cy="5257800"/>
            <a:chOff x="4572000" y="990720"/>
            <a:chExt cx="4267080" cy="5257800"/>
          </a:xfrm>
        </p:grpSpPr>
        <p:sp>
          <p:nvSpPr>
            <p:cNvPr id="170" name=""/>
            <p:cNvSpPr/>
            <p:nvPr/>
          </p:nvSpPr>
          <p:spPr>
            <a:xfrm>
              <a:off x="4572000" y="990720"/>
              <a:ext cx="4267080" cy="5257800"/>
            </a:xfrm>
            <a:custGeom>
              <a:avLst/>
              <a:gdLst>
                <a:gd name="textAreaLeft" fmla="*/ 360 w 4267080"/>
                <a:gd name="textAreaRight" fmla="*/ 4266720 w 4267080"/>
                <a:gd name="textAreaTop" fmla="*/ 360 h 5257800"/>
                <a:gd name="textAreaBottom" fmla="*/ 5257440 h 5257800"/>
              </a:gdLst>
              <a:ahLst/>
              <a:rect l="textAreaLeft" t="textAreaTop" r="textAreaRight" b="textAreaBottom"/>
              <a:pathLst>
                <a:path w="21600" h="26615">
                  <a:moveTo>
                    <a:pt x="8" y="0"/>
                  </a:moveTo>
                  <a:arcTo wR="8" hR="8" stAng="16200000" swAng="-5400000"/>
                  <a:lnTo>
                    <a:pt x="0" y="26607"/>
                  </a:lnTo>
                  <a:arcTo wR="8" hR="8" stAng="10800000" swAng="-5400000"/>
                  <a:lnTo>
                    <a:pt x="21592" y="26615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990720"/>
              <a:ext cx="4267080" cy="4696560"/>
            </a:xfrm>
            <a:prstGeom prst="rect">
              <a:avLst/>
            </a:pr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1&lt;/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1&lt;/B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1&lt;/C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2&lt;/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2&lt;/B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2&lt;/C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   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29000" y="2362320"/>
            <a:ext cx="838080" cy="457200"/>
          </a:xfrm>
          <a:custGeom>
            <a:avLst/>
            <a:gdLst/>
            <a:ahLst/>
            <a:rect l="l" t="t" r="r" b="b"/>
            <a:pathLst>
              <a:path w="2329" h="1271">
                <a:moveTo>
                  <a:pt x="0" y="317"/>
                </a:moveTo>
                <a:lnTo>
                  <a:pt x="1746" y="317"/>
                </a:lnTo>
                <a:lnTo>
                  <a:pt x="1746" y="0"/>
                </a:lnTo>
                <a:lnTo>
                  <a:pt x="2328" y="635"/>
                </a:lnTo>
                <a:lnTo>
                  <a:pt x="1746" y="1270"/>
                </a:lnTo>
                <a:lnTo>
                  <a:pt x="1746" y="953"/>
                </a:lnTo>
                <a:lnTo>
                  <a:pt x="0" y="953"/>
                </a:lnTo>
                <a:lnTo>
                  <a:pt x="0" y="3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7920" y="3691080"/>
            <a:ext cx="3815640" cy="2583000"/>
            <a:chOff x="97920" y="3691080"/>
            <a:chExt cx="3815640" cy="2583000"/>
          </a:xfrm>
        </p:grpSpPr>
        <p:sp>
          <p:nvSpPr>
            <p:cNvPr id="174" name=""/>
            <p:cNvSpPr/>
            <p:nvPr/>
          </p:nvSpPr>
          <p:spPr>
            <a:xfrm>
              <a:off x="1703160" y="3691080"/>
              <a:ext cx="452880" cy="582120"/>
            </a:xfrm>
            <a:custGeom>
              <a:avLst/>
              <a:gdLst>
                <a:gd name="textAreaLeft" fmla="*/ 360 w 452880"/>
                <a:gd name="textAreaRight" fmla="*/ 452520 w 452880"/>
                <a:gd name="textAreaTop" fmla="*/ 360 h 582120"/>
                <a:gd name="textAreaBottom" fmla="*/ 581760 h 582120"/>
              </a:gdLst>
              <a:ahLst/>
              <a:rect l="textAreaLeft" t="textAreaTop" r="textAreaRight" b="textAreaBottom"/>
              <a:pathLst>
                <a:path w="21600" h="27759">
                  <a:moveTo>
                    <a:pt x="75" y="0"/>
                  </a:moveTo>
                  <a:arcTo wR="75" hR="75" stAng="16200000" swAng="-5400000"/>
                  <a:lnTo>
                    <a:pt x="0" y="27684"/>
                  </a:lnTo>
                  <a:arcTo wR="75" hR="75" stAng="10800000" swAng="-5400000"/>
                  <a:lnTo>
                    <a:pt x="21525" y="27759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97920" y="4730760"/>
              <a:ext cx="1391400" cy="1526040"/>
              <a:chOff x="97920" y="4730760"/>
              <a:chExt cx="1391400" cy="1526040"/>
            </a:xfrm>
          </p:grpSpPr>
          <p:sp>
            <p:nvSpPr>
              <p:cNvPr id="176" name=""/>
              <p:cNvSpPr/>
              <p:nvPr/>
            </p:nvSpPr>
            <p:spPr>
              <a:xfrm>
                <a:off x="480960" y="473076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1520" y="552456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8720" y="552456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5920" y="552456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04640" y="518796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9560" y="5189400"/>
                <a:ext cx="180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09560" y="518940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7920" y="5896080"/>
                <a:ext cx="1391400" cy="3607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1  b1   c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225080" y="4749840"/>
              <a:ext cx="1391400" cy="1524240"/>
              <a:chOff x="1225080" y="4749840"/>
              <a:chExt cx="1391400" cy="1524240"/>
            </a:xfrm>
          </p:grpSpPr>
          <p:sp>
            <p:nvSpPr>
              <p:cNvPr id="185" name=""/>
              <p:cNvSpPr/>
              <p:nvPr/>
            </p:nvSpPr>
            <p:spPr>
              <a:xfrm>
                <a:off x="1608120" y="474984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18680" y="554364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8732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4452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531800" y="520704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36720" y="5208480"/>
                <a:ext cx="144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36720" y="520848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25080" y="59133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2  b2   c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522160" y="4749840"/>
              <a:ext cx="1391400" cy="1524240"/>
              <a:chOff x="2522160" y="4749840"/>
              <a:chExt cx="1391400" cy="1524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905200" y="474984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13960" y="554364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8296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3836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828880" y="520704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33800" y="5208480"/>
                <a:ext cx="144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33800" y="520848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22160" y="59133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3  b3   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852560" y="4308480"/>
              <a:ext cx="180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60040" y="4308480"/>
              <a:ext cx="99396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2560" y="4308480"/>
              <a:ext cx="129528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352680" y="4114800"/>
            <a:ext cx="838440" cy="457200"/>
          </a:xfrm>
          <a:custGeom>
            <a:avLst/>
            <a:gdLst/>
            <a:ahLst/>
            <a:rect l="l" t="t" r="r" b="b"/>
            <a:pathLst>
              <a:path w="2330" h="1271">
                <a:moveTo>
                  <a:pt x="2329" y="317"/>
                </a:moveTo>
                <a:lnTo>
                  <a:pt x="582" y="317"/>
                </a:lnTo>
                <a:lnTo>
                  <a:pt x="582" y="0"/>
                </a:lnTo>
                <a:lnTo>
                  <a:pt x="0" y="635"/>
                </a:lnTo>
                <a:lnTo>
                  <a:pt x="582" y="1270"/>
                </a:lnTo>
                <a:lnTo>
                  <a:pt x="582" y="953"/>
                </a:lnTo>
                <a:lnTo>
                  <a:pt x="2329" y="953"/>
                </a:lnTo>
                <a:lnTo>
                  <a:pt x="2329" y="3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